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196-71B6-4C55-9620-3B274102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EC4-4BA0-4785-BF2D-E1E1994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2B8-7A11-4426-92F0-2B843584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073-03CC-4128-839D-317F64B1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52B-37E5-4167-937B-BE16E7F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A55-9AC4-4ACE-84E6-26A5676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44B-7FF3-454A-989C-D429F4A2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FF1-2136-41D9-AAE0-0A33C59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4B6-5351-4317-8C8B-682418A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0B8-468B-4FBD-801A-EB796C7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041-F2C0-46F1-B578-311ABAC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9DD-1C40-48E3-A043-F50D6CF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12A7-9DC4-4041-94A3-E748BDA7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6858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room I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90720" y="2590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why classroom instruction is an important teacher behavior.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ed by W. Huitt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990720" y="18288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methods have generally proved more likely to positively impact scores on standardized tests of basic skills than models in other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14400" y="16002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 methods associated with information processing approaches are more linked to concepts and principles developed in cognitive psycholog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2590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oncept At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886200" y="2362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gorizing information and concept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04920" y="36576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quiry Training/ Inductive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86200" y="3505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sal reasoning, interpretation of data, and formation of  principles and the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886200" y="5257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nfluence of maturity on thinking and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90720" y="5181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tellectu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38080" y="17524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of the tests used to measure school learning are being modified so that they consider important mental processing skills that these models are designed to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1600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se models is on those outcomes held in high regard by humanistic edu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self-concept and self-esteem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47920" y="3048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itive self-direction and independenc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47920" y="3505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vity and curios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447920" y="4038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velopment of affect and emo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2514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Facilitative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86200" y="2362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ective orientation; based on methods of Carl Ro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066680" y="365760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Increasing Personal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86200" y="350532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is on developing an awareness and fulfillment of individual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886200" y="502920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on the development and application of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14300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Syne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8"/>
          <p:cNvSpPr/>
          <p:nvPr/>
        </p:nvSpPr>
        <p:spPr>
          <a:xfrm>
            <a:off x="914400" y="16765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these models have not demonstrated an ability to impact outcomes associated with traditional education, they do show promise in impacting other outcomes important for the informati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16002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dels associated with the social interaction family are focused on developing the concepts and skills needed to work in group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1600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3520" y="25909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86200" y="236232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in groups; based on the methods of Slavin and Johnson and John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094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886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and development of social behavior an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3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4"/>
          <p:cNvSpPr/>
          <p:nvPr/>
        </p:nvSpPr>
        <p:spPr>
          <a:xfrm>
            <a:off x="914400" y="16765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ve learning has demonstrated an ability to impact standard achievement measures as well as group inte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3886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62520" y="350532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ities designed to get ready to interact with students in the class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point in this discussion of models of instruction is that each has been designed for a specific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14400" y="3048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used to obtain that purpose each model has demonstrated some supe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14400" y="41148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a rare model, such as facilitative teaching or cooperative learning, that adequately addresses purposes of more than one category of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95280" y="3048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 model should be one of direct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295280" y="40384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ques developed in the information processing models should be incorporated into this bas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295280" y="30481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 should be delivered using techniques advocated in facilitative tea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95280" y="40384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ve learning techniques should be incorporated as a part of guided and independent prac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14400" y="16002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purpose of instruction is to have students score well on standardized tests of basic skills, I believe research affirms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2971800"/>
            <a:ext cx="746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some students are still not meeting academic expectations after these instructional techniques have been successfully implemented, additional time and alternative instructional methods should be provided using mastery learning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9051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critical to recognize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ter teacher mode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where focus is put on individual teacher competence, demonstrate onl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R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lationships to student achie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14400" y="190512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only through school-based or district-bas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stematic instr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.e., coordinated curriculum and programmatic implementation across grade levels) tha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lationships are established between school and/or classroom behavior and student achie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37160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86200" y="3886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olling student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8288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discussed previously, classroom teaching is composed of three separate, but interrelate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523880" y="3886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37339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rposely guiding student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1828800"/>
            <a:ext cx="746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critical as planning and management are to performing competently as a professional educator, quality instruction is absolutely necessary if students are to be successful in learning required content and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26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838080" y="1752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a variety of ways to define quality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838080" y="31240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at instructional quality means that the desired goals and objectives have been ob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s of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914400" y="1600200"/>
            <a:ext cx="7391520" cy="4787640"/>
            <a:chOff x="914400" y="1600200"/>
            <a:chExt cx="7391520" cy="4787640"/>
          </a:xfrm>
        </p:grpSpPr>
        <p:sp>
          <p:nvSpPr>
            <p:cNvPr id="63" name="Text Box 3"/>
            <p:cNvSpPr/>
            <p:nvPr/>
          </p:nvSpPr>
          <p:spPr>
            <a:xfrm>
              <a:off x="914400" y="1600200"/>
              <a:ext cx="7391520" cy="47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Joyce and Weil (1996) describe four different categories of models of instruction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oyce, B., &amp; Weil, M. (1996).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s of teaching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(5th ed.). Englewood Cliffs, NJ: Prentice-Hal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4"/>
            <p:cNvSpPr/>
            <p:nvPr/>
          </p:nvSpPr>
          <p:spPr>
            <a:xfrm>
              <a:off x="990720" y="5257800"/>
              <a:ext cx="7162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16"/>
          <p:cNvSpPr/>
          <p:nvPr/>
        </p:nvSpPr>
        <p:spPr>
          <a:xfrm>
            <a:off x="1447920" y="25909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44792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formation process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447920" y="3809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ersonal development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447920" y="4343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ocial interaction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14400" y="1600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cus of the methods associated with this category is on observable skills and behavi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685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havioral System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14400" y="1600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major models in this category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14400" y="27432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86200" y="23623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y structured, teacher-directed; maximization of student learn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14400" y="42670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astery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886200" y="38862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n enough time and quality instruction, nearly all students can master any set of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02:56:40Z</dcterms:created>
  <dc:creator>College of Education</dc:creator>
  <dc:description/>
  <dc:language>en-US</dc:language>
  <cp:lastModifiedBy>penny</cp:lastModifiedBy>
  <dcterms:modified xsi:type="dcterms:W3CDTF">2013-09-14T23:50:50Z</dcterms:modified>
  <cp:revision>25</cp:revision>
  <dc:subject/>
  <dc:title>Models of Instruction</dc:title>
</cp:coreProperties>
</file>